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658-DE25-41F1-ABA4-1AAE58F8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57A-58C6-40BE-A479-FB7C2DC6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BA644-96CE-43D9-AFD0-BA35694F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47D89-15BF-4481-A99E-693DDB9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106BA-2618-4637-ACEC-5F6430C0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B3269-5573-4C90-98EE-6544364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2F35F-8331-4546-80B8-86042F1B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09138-F64A-47AE-96F0-A4E21F8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36777-A267-4D86-8D81-CB2B4C71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C9083-363D-4D15-A069-CA631F43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03261-5949-40C8-9FD8-D5E9CE01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B2B87-4CDD-4894-9A48-9CEF65AC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24C-B953-46F4-9395-F96D21B3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868F5-E853-4A2B-A637-6859F7A9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20910-FA21-4AF0-AA97-C953F065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F0C81-46D5-4C8E-BDE3-8121A902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A6A83-DD2F-450D-89D7-D69BC2B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FF1AC-78D2-4DC6-89E9-CC01F28A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A08AC-68FD-4440-8A81-2AF7F07B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B2A52-A1C2-44FF-BA39-4BC9573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D5B2F-2B41-4D48-BA3C-DFAFCD9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B6736-5964-4D89-B36A-E95BFE49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2515C-D154-475D-AAC1-79190493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7D6-82E6-4AA8-A6E1-AE39F27D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5D60F-4279-4A46-B287-75C209F4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DECC1-DF0F-4EFD-8512-6F4FACB3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48A41-F97B-4ABB-AE97-B993A41F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27BB7-D961-4475-BD77-D601F3DE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6B4AA-2CBD-4660-9A12-ACAED34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30FD4-31DC-46B0-8833-671A2EB8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259B8-43EF-4D9B-8556-1BD44237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5A8D1-8496-4C00-BEBE-5753F53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20E2A-775A-4C6A-9343-C25C10C5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7A615-59C3-4E69-B300-9BEA070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EB70-0E30-4D3E-B2E6-92B66DCD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59DFB-EDF8-496A-AC46-DFD64757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6E018-6E58-406A-9AA4-960EBD7B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F658F-4B66-4410-88B6-E746099A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B4F5C-FA71-40CC-BFB6-233C4514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36185-230F-4B41-B88E-3DBFBAF5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1D14E-C178-487D-AE6F-B9BC3CA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F5896-9299-4A61-A515-D5BB05A1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EFC2C-55A7-415D-8095-930C2D7F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EE839-4F6A-4C05-A151-9FB544AB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F6643-369A-47C2-8A9F-5217676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2680-45D4-4A80-907B-F00530DF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551EC-CF48-4E86-A715-0F472A3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5E726-BCDA-47F0-88E4-7FEB719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B0BF2-88A3-4951-9B23-AB2513E4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D9655-A6D9-490D-9671-339525F3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C0560-FA23-4A3B-8630-EDECECAB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A3284-5933-47A4-9DAA-3CDC1381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B4858-7978-43EE-B89E-9877B691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FDEDF-D428-48BF-920E-8FDA2C34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D8548-220F-4478-A187-10EEAF0E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7316E-C79B-4931-945B-C2875D7C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4205-5AA5-4DFB-BD9E-A376544F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8817B-E43F-48BF-A057-A554B5DC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FBEDF-A8C1-4C88-8F8C-E3E9CD1F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21992-0D62-4001-A869-22DC4506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204E1-DAB2-4304-BE40-AD37DA45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080AB-502D-4186-8007-F629B298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62F6D-8BDC-4988-8F93-91A09508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02AAD-03E8-4C02-9F9A-15C02FFE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65832-B563-487D-876F-CB7CE178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B12B8-96B2-470C-AFFF-F27DB8C9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ED39F-1E29-4CCE-B829-B1CE4865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C913-0D20-409A-B39E-A574CFCD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E882E-0FB7-4815-8BBD-2E4FEB19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F0D78-A2F4-45A2-8551-B2722A6D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C0054-3EAF-4A82-9141-C595555B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0A5C5-C188-4A72-AFD9-6BB40320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E5CC6-3B32-42BB-9809-7E948210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22EA3-ECFA-469C-9865-FC97E36F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35CB2-FFFE-4D5C-BE2A-E45D5A6E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CD97C-5564-4704-8BDF-3E444E8B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221BD-80FA-4AE6-B6D2-EB14A4B8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CDE03-5371-4DF4-932D-54706A86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6094-8C4F-4E17-8086-08D1E549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0BE46-57A1-4EA9-8B57-2F843FA0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7943F-E2DB-4FBB-83C1-45E0718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CB21A-3A77-477A-B97E-4F134BAB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9BECE-45A1-41F3-8110-FB9EC462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D337B-92C1-42CF-9ACD-BCA1C4F3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FF532-C110-48BC-8A7A-9CBC5343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F919C-A9EB-4381-A0CC-0D07676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9B23F-4AE2-4CA0-B4DE-7E1B6501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D0819-AA49-48D2-816B-E30ECBE8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493B6-E649-4435-960C-B0652106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0801-9A16-4802-885B-AE74B5DB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16FDD-32E3-4738-8792-97DF03F1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9A838-42DE-4424-887D-9969349E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8203C-E1E6-49F9-8965-E11B9042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89A8A-6236-4256-AE65-483AA553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F7F39-035D-4A7C-890B-BF9F3F0A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AEAC2-1638-46DE-BD1A-1FD9357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F219E-F37F-484B-AF4E-22F15002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F90F9-70FB-498F-B462-066580B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DB5A8-58B6-4596-82A1-46BA8DA1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34302-3D6C-4E0E-A157-B3D124FD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A7FB-C625-42F1-AB93-B771E145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040246-6056-4643-89DA-2E638877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D345E-43D2-424A-8AB8-F39E3819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94C9A-89EB-41C7-9277-0075EC48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23876-0206-425F-980D-2EF07161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A8612-50E0-4F35-A7E3-91566EB5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0B09C-9B15-4A25-9CC0-F00F9DA2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98A56-1AD2-47AD-8E00-77B008EC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9F1F4-B214-4808-8133-CE2B5A34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F0C59-9770-48B9-8065-1E9602CC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94682-5FC3-4952-B75E-FD4F0E3E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99F-1085-4DDC-BB8E-25B93D3C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5C85-0106-4882-B5D6-84D09F54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2DF85-0903-438F-9979-62D0D33A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B3B9B-13FB-462C-8CD5-DB9707D0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0B2C6-F94C-4ECE-BB10-77F92CEF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38704-2392-44F7-AD8E-29CB3C34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2DFF4-0722-436A-A505-EBFB3319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5C632F-10F4-4BD0-8380-5944C863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3C20C-3B7D-442A-9D43-117B17C3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AB1E8E-1820-419B-B9A4-C83BA9EC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6E238-5FDA-4A4B-BBD0-73B4E95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9E11D-6E92-4F43-BBD3-B56CCBB4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E481-8DF3-4F96-9EF5-B00CCC36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21BD3-E4A5-43D2-BD2C-DC63DF9B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EFEA7-C2B3-4AF8-936D-AF24DE69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35250-2BDD-441A-B0E0-A253F854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EAB8F-8DCE-4D4D-8119-6136892E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B7720-0DB7-4A2E-8DD1-2BD7A06B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28A7B-6BB5-476B-BC3A-59190D52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5F6C4-29EE-4C15-B2EE-9706DDC1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201D8-6B55-4762-96F6-A8114502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9269B-95F3-4C4E-90BB-78A5EAD7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6EBD5-ABCF-4A80-84B1-18A9BD2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B88F-83ED-4788-BB9D-EDFD4122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34B8F2-CBFD-4A5B-88C3-29086229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8ECE7-B058-4CF2-9CDF-3CA969FA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D3862-60D8-4E04-B818-741F946D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5CF17-F218-4132-B0D3-F0EF281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A9F6D-4EA5-4D7F-8A81-1D3F2BF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4CF37-AFDF-408E-83CC-558E05C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77DC0-3069-438B-84CD-AEA934DE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28AF1-8018-4E73-B977-44055DE1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66E65-EBE3-4F06-B927-A0A7FB0D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C4DF3-4748-4D42-BDD8-90F8CC6F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87E2-C6AF-41B6-B0B4-697FCF73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187D9-0E8C-47BD-AC48-6807599C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EF73C-4B27-4464-9BC0-429E69AD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CEF18C-7984-4359-B82D-F34D49CD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253076-F327-41B6-821C-343BAB88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F3E28-DDF6-4CE1-AC20-117CA7C7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B83ACF-5415-4E0F-82D3-9F33248C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848EC-A91A-4344-A726-94149E73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BC0CC-214E-4E66-B658-5CC6BBA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1FA22-0D40-4C02-8D6F-CB7D373E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ADBB28-ED37-4E23-BF46-36B690B0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CDA9-8671-457F-8EA6-9803EC74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16FC6-60A0-42F9-9804-473DEDAC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C4B36E-79F8-4A4F-96B4-03C07B5C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F7DBF7-73D0-4AC9-8680-305C50DD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C2B58-F60A-4F1D-9938-C87FE774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19CBD4-E838-445F-B852-C6F6D0EA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D127E6-F400-42E0-8D17-441655B9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997EF-0D59-47F5-BA5C-2F9DD6A2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62F1A4-A74C-424D-8316-5DE7AA01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D24092-17D7-47DE-AAA6-B549220F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AAB70B-C789-481E-992A-3FB43C49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BE29-6AC8-4B6B-80C3-305B02BB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0F4336-35D2-47D4-9373-C4A45A1E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CA05E-D278-4D80-9566-DBBC3068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9146BE-6A40-4674-BA65-E427F2FB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C8CCB-AFC1-4E64-B896-E213502E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BF28-4185-4A94-BA51-8379604D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E939-AE12-4367-9388-F448A7D0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4E47-C375-47B1-AE6D-6A9E69EC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B51-E4F8-40AD-AA41-B7B35F4A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42B2-53D4-4EC1-8AD6-074ACE83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2F6E-BB5A-47C2-BC14-7BC26EF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39E4-16EC-49F8-AFA2-D5AFEFA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4D33F-7AD5-4F21-A61F-7D4E7C61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FA3F-4FE6-4984-A3F0-49AF30F9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2ED5-98B7-4710-B205-C6FA52AB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9D69-3EF5-4BE9-B47C-384D191E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86C0F-B2FE-44DA-BA54-036DDFE4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B859A-1D8F-49C8-B1D8-60D563D2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B7A77-40B5-4C7F-8FC0-74AAFBD3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5ED-4146-4BCB-B8D2-9A7A74DC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07F5-0ECC-4806-9761-DB9E400B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F2894-E867-4B2A-9DF3-02B98A2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29C7-845A-46A7-9F58-14AB9F57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ABC7E-9C6C-4FBF-A06C-72861D2E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50AF-9459-4150-9841-E943504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2510F-E06B-4FF1-8ED5-2ECFBEF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8711-B47F-4227-9BFF-4AA73649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AE86-B60C-4FB5-99F4-18CC0617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5F66-41F8-4676-84E6-41281D3B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F3C32-13D7-4B4D-9D7A-9D15F502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B8F-7A33-4991-9FAF-98CEC110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EBD29-93B1-4F84-B741-0040DF7D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6DF94-F99B-47F3-A434-2C3440A5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AF4F1-CC11-468B-8B4F-DB9C72A1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1EAA1-8747-4562-9701-F31375F4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8690-F803-4E18-B7FD-FB24C524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9FE7D-46D1-44F5-903C-4ED317A9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C24B6-1EF9-4492-AA8F-60A85470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2FEE-D6E3-468C-9FEE-28031C88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F1487-A113-4082-B031-1AC544DF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7775-3A19-4939-ACF8-951FC620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52D-5288-4F76-AEF1-324A2BC3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7B961-F00D-413A-8961-31A94362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DE94-B59B-483D-9FB2-F9A8BADB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2BD6C-D7F0-4234-920C-133B504A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4B3E4-2947-4C06-932A-EF8FBC09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BD271-CEB3-4E8A-B391-A3A8C9D8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ADBEC-519C-405E-A699-DF25B39D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93100-F7A9-4819-B694-57621458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F4411-88FA-45A4-AFAD-2FCCB687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D89E-CCDE-4136-870A-9093CE7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DF53C-41D2-4F5C-9CE5-625BBBD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BB2-8CCF-41E5-BC41-0EF4F21A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8C08A-C544-46FC-B6C9-807D7180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E3B2D-E484-4930-842E-9362223D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A6B9E-9880-440C-9B58-01341A3A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390D-9D9F-4824-9F1B-280F1A34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5CC70-C7E8-4851-8232-9598C543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90828-2C09-4B01-9CBA-AE4EB793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3D86-5BE2-41B6-BA19-35D0FEFE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DF45-7438-4A70-90C6-21BD07E1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1E9A3-FF98-445D-AA55-923C3B2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ABF3-5942-44D1-A25E-76D5BD8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613-216D-4F38-B921-7832625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34853-B371-4E20-81EC-0C72C31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3699-D865-431A-BFC1-8CE252EC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5C422-27E7-4A64-976C-24260A24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5174A-EDDE-4CA4-B119-7F25BE16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DE5D5-3408-408C-B418-CF69A8F6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8CFB9-E6C0-4355-8FB0-8FAE6C21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46A3-BABF-41F1-AB3A-CAF32541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DA07F-E930-41A6-85D6-A06BB41D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5EBD-442D-43E9-BF49-32C80337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57565-51CC-4E82-B5B2-A67DAD1B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6E1-B6C1-403A-B499-5A20B2B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28966-5F1C-4860-AEB0-0D49983E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F442F-1953-48B6-A2BF-B1BBC8C3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9B9F-D78E-4D05-873E-E349321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FAE0-E563-4A82-8ECD-97653BD9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EC58F-7827-40B8-BE6E-FF6C5579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CCE79-FBFB-4FEB-B992-239D1881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22487-F7D1-4E7F-9044-4FD7AD2B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D396A-3519-4EE6-9F7B-386CDEBE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0BCB8-76B0-4687-813C-2DCFC68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8E197-30EC-4E52-AD22-FAF6A096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6B1A-698F-448D-B7DD-EF92C9559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B45D-47E8-4C0B-95DB-EA4ED1220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3F80-C527-4417-A515-4A792CA729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C6C6-DF23-4340-8253-CCF8C3D33E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2146-62F7-4C79-B721-6EB1776CAA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D68A-A075-43DE-A85A-CF23BF8BCD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7B36-E9F4-47F8-9F34-1F8DB7058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0F16-7DA0-42A3-B2CD-CDE7C53CB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91EC-00D0-495F-9D9A-4483AF384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F4A5-9B28-4A23-A32D-70D30BC63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1D96-6DC5-43CB-AC11-CB84E5463B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532D-CE01-4007-9A80-5ADA98F28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9789-9FAC-48EE-8F1E-4B62E4A793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675E-3F76-4208-A535-FE55ED1B67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75DB-045F-4B0E-B1D6-0D3314FF2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F1C3-D4EC-464A-B86E-525683E66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56C0-CF74-4422-86B2-6256B7EDC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37C3-2DCF-435B-9224-0EC4651C9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07DC-2FD8-4ED6-9F74-1ADC74FC0F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23D2-B121-4A8C-9228-8C63C615C4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233D-584C-43F4-88CF-F2C7DCAA7C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EF87-E8CE-4BF9-ADA0-843FE6E33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0182-3C42-4050-B423-3277AF600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7742-743E-4AEC-9C96-641AF5D9C7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F328-8D09-4CC8-ABA6-7F3A9264A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9357-D67F-47C0-B907-C75F003335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2DAE-F642-49B4-92C3-D6440255A8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52BB-8357-4923-8EEA-390C671D9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2411-E01E-4EAC-BB83-C6A14707C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7500-2014-4C22-8F78-B8A3C71A9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A852-A196-460B-B37B-8B0A0E17F6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E951-F04A-430E-BB42-87410C4F89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EE84-6BBE-4B83-B3E8-CE9C8E688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FE65-6F63-4BAC-B1C9-B0AC0F8748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374D-1F78-4CD0-ADF5-F4E5A99CB9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9A91-CE4C-41BF-BD11-BAD927AC5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6DCE-251F-495A-887F-0650DF159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185E-263A-4F4B-9EC3-EED612279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5778-90E7-41BA-B3AF-D41F794F9D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22D5-18D3-4B34-ADBD-B1F8F77280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7520" y="3294000"/>
            <a:ext cx="905040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95120" y="1824120"/>
            <a:ext cx="8751960" cy="3209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24066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2997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35146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87280" y="40194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87280" y="45957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476280" y="1362240"/>
            <a:ext cx="8191440" cy="4133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476360" y="43797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20600" y="952560"/>
            <a:ext cx="89028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00120" y="2338560"/>
            <a:ext cx="7943760" cy="21808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476360" y="2852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476360" y="342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403280" y="39765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738360" y="2409840"/>
            <a:ext cx="7665840" cy="20383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8194" descr=""/>
          <p:cNvPicPr/>
          <p:nvPr/>
        </p:nvPicPr>
        <p:blipFill>
          <a:blip r:embed="rId2"/>
          <a:stretch/>
        </p:blipFill>
        <p:spPr>
          <a:xfrm>
            <a:off x="2700360" y="2967120"/>
            <a:ext cx="4176720" cy="5587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8195" descr=""/>
          <p:cNvPicPr/>
          <p:nvPr/>
        </p:nvPicPr>
        <p:blipFill>
          <a:blip r:embed="rId3"/>
          <a:stretch/>
        </p:blipFill>
        <p:spPr>
          <a:xfrm>
            <a:off x="2655720" y="3832200"/>
            <a:ext cx="4176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0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